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B468-E1FE-45C4-B123-37BC619C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F918-CDC6-4413-BC72-A16E3B15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72A7-895A-41F8-86D8-6174EE70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73D3-C12B-4817-B366-A35E51AC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BF0F-4427-4236-9627-46C4E0DE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878E-E603-46B8-AD9E-FCF7EDCA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647C-9EDE-4322-8E35-B2645027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719D-478F-447B-AF72-FF2BAC69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2C76-1235-41C0-9943-DEB00917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C370-085E-40A9-A643-1017CF24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FE55-C1FB-4BDE-A1A0-CD68D57B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46D5-7C49-44A2-9894-48AF8F41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DC1E-AB67-4CE0-B30D-B08C36AF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B7E6-92F6-4A9D-A1F1-0261FC13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F5B3-EDE6-456A-890B-9ED7E55E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C09E-2AA9-469A-99F4-AB581EE7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9C6B-75AA-4919-B587-969B7242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999D6-B88D-4784-924A-B3A377185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936A0-89C5-4D85-8A09-3C631751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69F4B-2E51-4839-BA11-F038E566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0B2CC-764A-4B28-8333-26B976A7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82D56-4977-4F07-8672-A819B23C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DB5C-EDCC-47BB-A671-D1419AFF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989EE-E974-43FA-8CC2-23F19F72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D1439-CA4A-4CA8-976B-FD40D7CA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B0E7D-CF02-48D0-AA7B-AA907DEA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61A5D-3DD1-4381-A143-4991C6C5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30586-BE19-46AA-8316-486A999C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7E9DA-1F79-496A-8A05-63A27ED0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43FAA-71E0-46EE-9D9B-C81D89AB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859DA-B40D-4542-8597-45CCECBE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472B1-D014-4E9C-A015-5703FC9D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E37AD-1075-4E09-B0D9-5934D409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88CE-5413-48B3-AC63-10F2A0F1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F3451-C148-47F5-83E0-CF205E55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9EF54-BB99-43DF-B22D-BCAE0580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6EFBD-5B31-460B-AF38-CE68DDC9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9A055-2B3B-4B0D-8341-AE2B74C0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DB333-56F7-46F5-BBEC-E2DB9B98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AD2ED-61F3-48F4-81E1-A9A3CC3C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75508-0B29-421E-9EC9-9B59D33B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94246-FFDD-41EF-BCF2-45BC9095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B0CE6-4D1E-4787-9256-F6864148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C0656-46C0-4D9E-A58D-9B195111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9380-3222-4645-A5A7-21617D5C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52973-7FF6-4A23-82BA-250EB4D4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50663-812F-416F-BBF0-4A7441E9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83079-CD4B-4DAE-B431-A7E2AEEA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82D17-D82E-43CC-9A55-3201A5C8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AD809-5599-403A-B658-8DE69377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8BBBD-42C2-44FE-882F-BAF56390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072B3-868D-43BD-8666-5B7D6AB4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5A236-5005-445A-95EA-5C683A6D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7271C-4ED1-4221-9C98-AF2D5D75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581AA-1F16-4A8F-98C9-304BCCB2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C451-84EC-4E1C-909F-D865956B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CF22E-7E36-4A55-A285-9E6FF0EB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2960-49BB-44B7-9B7E-7C6FD339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36A2-9061-4E9F-AB7C-DD0E65A2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43FA-A869-42E7-BBC0-F35DAA8B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8910C5-A8F1-4291-B088-D375F640422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7B7872-2E93-4DAC-81E9-3CFE6ED0D4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ticket7R.png"/>
          <p:cNvPicPr/>
          <p:nvPr/>
        </p:nvPicPr>
        <p:blipFill>
          <a:blip r:embed="rId3"/>
          <a:stretch/>
        </p:blipFill>
        <p:spPr>
          <a:xfrm rot="1082400">
            <a:off x="5549760" y="1755360"/>
            <a:ext cx="1097280" cy="557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ticket8R.png"/>
          <p:cNvPicPr/>
          <p:nvPr/>
        </p:nvPicPr>
        <p:blipFill>
          <a:blip r:embed="rId4"/>
          <a:stretch/>
        </p:blipFill>
        <p:spPr>
          <a:xfrm rot="20712000">
            <a:off x="5382720" y="2155680"/>
            <a:ext cx="1096920" cy="555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42-16393499.png"/>
          <p:cNvPicPr/>
          <p:nvPr/>
        </p:nvPicPr>
        <p:blipFill>
          <a:blip r:embed="rId5"/>
          <a:stretch/>
        </p:blipFill>
        <p:spPr>
          <a:xfrm>
            <a:off x="2516040" y="304920"/>
            <a:ext cx="3427560" cy="4343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96BCD-FC8B-40DB-9E09-8DCE1FC3A74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F30CB-9D76-4638-9587-1560B26163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ticket7R.png"/>
          <p:cNvPicPr/>
          <p:nvPr/>
        </p:nvPicPr>
        <p:blipFill>
          <a:blip r:embed="rId3"/>
          <a:stretch/>
        </p:blipFill>
        <p:spPr>
          <a:xfrm rot="1398600">
            <a:off x="6492960" y="1596960"/>
            <a:ext cx="2212920" cy="1120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ticket8R.png"/>
          <p:cNvPicPr/>
          <p:nvPr/>
        </p:nvPicPr>
        <p:blipFill>
          <a:blip r:embed="rId4"/>
          <a:stretch/>
        </p:blipFill>
        <p:spPr>
          <a:xfrm rot="21078000">
            <a:off x="5945040" y="2293920"/>
            <a:ext cx="2213280" cy="1122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58733-BC45-4386-94A0-1DA55B36488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764716-5A65-4604-AA6E-7EFC167C7A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ticket7R.png"/>
          <p:cNvPicPr/>
          <p:nvPr/>
        </p:nvPicPr>
        <p:blipFill>
          <a:blip r:embed="rId3"/>
          <a:stretch/>
        </p:blipFill>
        <p:spPr>
          <a:xfrm rot="1398600">
            <a:off x="6035760" y="4568760"/>
            <a:ext cx="2212920" cy="1120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ticket8R.png"/>
          <p:cNvPicPr/>
          <p:nvPr/>
        </p:nvPicPr>
        <p:blipFill>
          <a:blip r:embed="rId4"/>
          <a:stretch/>
        </p:blipFill>
        <p:spPr>
          <a:xfrm rot="20218200">
            <a:off x="5236920" y="5035320"/>
            <a:ext cx="2212920" cy="11221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B6293-6189-43EB-BCAD-17FA6895B79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6DDAA-6E78-42FC-8883-FC9AE66BD5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6"/>
          <p:cNvSpPr/>
          <p:nvPr/>
        </p:nvSpPr>
        <p:spPr>
          <a:xfrm>
            <a:off x="785880" y="2192400"/>
            <a:ext cx="3429000" cy="1440"/>
          </a:xfrm>
          <a:prstGeom prst="line">
            <a:avLst/>
          </a:prstGeom>
          <a:ln w="648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Straight Connector 7"/>
          <p:cNvSpPr/>
          <p:nvPr/>
        </p:nvSpPr>
        <p:spPr>
          <a:xfrm>
            <a:off x="4937040" y="2192400"/>
            <a:ext cx="3429000" cy="1440"/>
          </a:xfrm>
          <a:prstGeom prst="line">
            <a:avLst/>
          </a:prstGeom>
          <a:ln w="648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AC976A-90DF-490C-96EE-B7EF3FE84AB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AE1D23-1ADD-413B-99B2-A385C85E69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371600" y="488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sto MT"/>
              </a:rPr>
              <a:t>HOMELESSNESS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215" name="Picture 3" descr="images.jpg"/>
          <p:cNvPicPr/>
          <p:nvPr/>
        </p:nvPicPr>
        <p:blipFill>
          <a:blip r:embed="rId2"/>
          <a:stretch/>
        </p:blipFill>
        <p:spPr>
          <a:xfrm>
            <a:off x="1225440" y="158760"/>
            <a:ext cx="660744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eb8ea"/>
                </a:solidFill>
                <a:latin typeface="Calisto MT"/>
              </a:rPr>
              <a:t>Homelessness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440" y="1868040"/>
            <a:ext cx="382284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Did you take a shower this morning?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Are your clothes clean?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Did you brush your teath this morning?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218" name="Picture 3" descr="images-1.jpg"/>
          <p:cNvPicPr/>
          <p:nvPr/>
        </p:nvPicPr>
        <p:blipFill>
          <a:blip r:embed="rId2"/>
          <a:stretch/>
        </p:blipFill>
        <p:spPr>
          <a:xfrm>
            <a:off x="4508640" y="2949480"/>
            <a:ext cx="46353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Research 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5800" y="1868040"/>
            <a:ext cx="777096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3:55:01Z</dcterms:created>
  <dc:creator>admin</dc:creator>
  <dc:description/>
  <dc:language>en-US</dc:language>
  <cp:lastModifiedBy>admin</cp:lastModifiedBy>
  <dcterms:modified xsi:type="dcterms:W3CDTF">2011-10-10T14:12:09Z</dcterms:modified>
  <cp:revision>2</cp:revision>
  <dc:subject/>
  <dc:title>Slide 1</dc:title>
</cp:coreProperties>
</file>